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15E-7507-432D-9FC8-DFFAFB24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6C0-9BE2-49AF-A06A-4B2DA606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A00-BC43-4D0B-96CE-85839072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BFC-EED3-4D48-9EE4-112F2272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121-009B-4504-83F2-C245F70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1FD-93E7-4A6D-9712-AA574BC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061-D8B4-48EE-90FD-D3628F1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242-EE97-4D44-81D1-FB423D77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6ED-CD13-4415-8611-71A9774A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6D1-E7B9-4696-861D-AAB75716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B55-D391-4994-853B-AF7CDC6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695-0E20-47E7-8EB7-74E6649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81CF-0276-4FF7-A017-B913A48E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l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no idea when I woke  up that morning that morning that everything was about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3489480"/>
            <a:ext cx="24382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 went to my friends house for a sleep over at first everything was good until it got da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24080" y="3166920"/>
            <a:ext cx="32767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ly and I where trick or treating in the dark and we  got lost  in the neibor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2273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 “heard I will get you” said a voice  what who who is there Emily said  “a ghost” said a voice  “a ghost”! I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3414600"/>
            <a:ext cx="43704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host said yes I want your candy that’s all but if you don’t I will get you ok  will give you are candy  so we gave the ghost are candy 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went back to normal  but then Emily and I turned into vampires and we stayed like that forever that ghost must have  put some  type of spell on u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193032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930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7:27Z</dcterms:created>
  <dc:creator>student</dc:creator>
  <dc:description/>
  <dc:language>en-US</dc:language>
  <cp:lastModifiedBy>student</cp:lastModifiedBy>
  <dcterms:modified xsi:type="dcterms:W3CDTF">2010-10-28T17:51:23Z</dcterms:modified>
  <cp:revision>5</cp:revision>
  <dc:subject/>
  <dc:title>Halloween</dc:title>
</cp:coreProperties>
</file>